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dt" idx="3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3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 type="sldNum" idx="3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039E-5773-41E9-B6D6-3DB984440A2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B6F2-84F8-4276-B462-0E4804BD694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322C-CDE3-4E74-9553-3D714C8FE57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E20C-0317-4DAD-B87A-E7A2C05448D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EC4A-8B44-49D5-90B7-A39BA0C4B1E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22FA-E04B-4D9A-AC16-CC9605CF5EE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35DF-8D92-4DBF-BA11-6F4CA6C2A9C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97F0-68C3-46D2-88FE-8FFA1F9DCD0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B338-5CEF-45AD-B07F-B3F1E543B3D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4CB6-CF7A-4481-848E-B9675481A85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4B39-BD1A-49D7-A2C1-87709DD41C4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166B-3483-4D6C-A342-C3FDB861CB4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146E-B134-4152-A6DC-30804A32DED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C88D-F650-48D2-AF1F-053036C8719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B2A7-BDD5-441C-81C5-0449C4FA85E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481D-D36E-45AE-AF96-8790C945742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36A8-97AA-4377-A0C8-7F15270BC2E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3790-D84F-4426-8B9C-A4B2679B1C6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2297-3A1F-4CBF-B07A-B031B5CFE93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54AF-FDA1-40CC-BA5E-8E8020FC862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96EE-0F07-422B-A239-9DA10C21773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2F5A-CE69-4A8E-A93B-5DB0235B92D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6388-7B12-418B-8B82-A6402DA8F4C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1F7F-48CB-470C-B018-2D4DDD4D3A7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3F9D-DC73-4C1F-B893-0D5B1359988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6EB3-9D30-465A-8FCF-9C549CE145F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4BEB-EF5C-4B37-A261-F80C05ECF25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A314-70D0-4004-86E1-1E722BF85BE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4879-2390-46A1-B0BA-AA2F9C4CD2D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C344-BE44-483B-A0DD-BA02CAD6623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131A-5391-4518-877B-BAF9E379D64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632-C620-4C5B-BA99-0DFAAEE9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3F2-D229-4558-A8E4-C49B20ED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6D640-1ECE-4EC8-A0A9-03A6F79AE6B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965F2-1A86-4EC8-9E40-A7E8D3D718D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085FA-B542-4382-8AC8-A0F25A97301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EEB45-AC41-40B4-B79D-B424113355A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E536A-CCEF-47A5-AAC2-2EF1225A920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0C8A1-64CA-431A-9018-18AD13CB67E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288F9-55B8-4F9F-BDE3-EB943620900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B3AF4-6EDA-471C-8D4C-3FA8575CA02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DC214-BF25-4D87-A26B-4D334370807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55E3EC-6E81-4C61-863C-2C0D9D700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DFC-013F-40F6-92E0-2CBF1E53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749C1C-4EE4-4027-BE71-CA6EEBE13A2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AC8248-35E6-4868-85A5-E46FC3E0C0E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5A8BCE-2FBB-4511-B1E4-B033630BB0A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73E0C4-3F67-4332-8323-13C3DF678E7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83B666-B07E-4106-B7B7-1D3EFE3BB11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3B636B-B0BD-4896-A1BF-C945C7C01D0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8A4865-7FDE-4DB6-BAC2-412C427D5A3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983809-C190-449D-8604-DB8370DEED7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876863-BEA3-47A9-B83D-F968F551CC2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74982E-1EFF-4862-ABA4-2AFDCD575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F8E-1345-41CF-A25F-C5DA1852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D15133-1541-41E0-BE49-D01E98AD231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886F2-68B5-4F5C-B1AB-C6A36802D12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057FF-ACC8-4914-9DAF-FEA3AF16F26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FD874-E7F1-4DF0-A322-EFCF9FAEA1A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B862E-E306-4DE7-BFA0-D1400B018CC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6FDAF-E09B-4E7A-BB65-29788A66B02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20931-D8D3-429D-9F0F-3259DB96A0F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02DA3-9AB5-4C75-AB47-58DB5C26D82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120B9-A1E9-4470-933D-FC77675830B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26838-34EB-4F27-8748-0F04FED42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C50FB-9603-4837-83B6-557C17FA730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76391-5D45-4B33-9B03-69E1CA1211F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EBE25-3C60-47A2-A163-7C22E33DD83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D4081-243A-4B58-AA21-7097C848C87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9447F-C458-4F34-ABF9-173525310B2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D9F08-A13D-4FAB-8226-2441655518A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F619B-4CBE-42E7-A054-D48DFF7031D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F7D4E-B5FD-471D-BB17-3E614C74FD4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AA5B2-6E07-4BF2-A20C-B695816DAF9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6172D-8628-4E4B-A158-94B336333A9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F79CB-3153-43C3-A146-07107BBD1C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8BACF-2B69-440F-B9F9-F86DD9B7561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2FD4C-6F42-4300-ACFE-20D08D6BF4F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DFD2F-D774-417F-B043-022A49C743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90372-5E27-4269-A895-85C82A5B87B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E8205-E148-442F-B077-001B7E0907E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C26B5-5ACC-42FE-896A-07ED3992E13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E07384-8040-49B8-92F1-6DEEDEF6695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E22D49-9FF0-480A-B2EC-BC01AEE56E8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E51EDE-B989-4B84-AD9A-92F3EB67662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AD9466-A0D2-4C16-8116-D93B966E8FA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AEF4CF-AB35-410D-9E86-4E40233471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02FBD-D67C-42CA-A6B2-A1A0C87A520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E5E1E0-11D5-40C0-BBD8-A7DE815DE9E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264400-133C-44BC-9FAA-80B5BFFA7C7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CB3D8C-F2E4-46AA-B301-F9E26CFE445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E5E897-63B4-4169-9BB7-02F38568DB7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01369D-8F9F-467A-978D-A21A3C83DFE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7EFFAD-2B74-4260-950D-456AAF04045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2F81A5-DBDD-4570-886B-D97631008D4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81FE8F-D65E-4393-9635-117B31992E3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205513-C5F2-46C1-BF55-40F69D779BD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522496-E368-4512-898B-E790AFDC57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CA6C5-E131-4EA1-A6F0-64E2E0E1E19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FBCDB8-417E-4F67-BA46-B2074AD602F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47C072-793D-4AFC-B2B7-B6421756E88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767221-5630-458E-913E-4704AE372AD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D77B58-9437-400A-8118-1219780A0B0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6A2CFD-1858-4FD4-91D5-B7EDC986F3A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4B2194-A75C-4146-905A-7ABCE37F827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6B4D8C-BF5D-4B88-8D6F-3C5AD63E75C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4EFC9D-65F7-4F6D-BE75-B0BF1E60BF5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9B37C4-85DB-423D-98D6-9CBBD26522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90C65-3A56-45BB-B9AA-9145D16055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1117C-4EC5-403E-BA31-8F1990B4B8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FC27E-E1B1-47F7-B795-F5A77AAF29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353-B0F9-45C1-8442-870A62E8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CD56D-719A-4DC4-9AD9-B186D37EE2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FA865-C584-459F-B9FB-5E94CAF512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80C27-32E8-4B0B-9040-4BF88B16AB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6331F-AD21-4923-A7BC-E0A4D731E3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F1A13-83AD-4AFE-924F-6AD5B99BD3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B15D3-19F2-40A2-9D10-5C4691F7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CBD1D-D4C5-49F2-9552-B4155E61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65BF3-DB01-43B1-AD5D-B29D25D0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13B49-B71C-42C9-BA1C-B7D264D1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DE754-F103-4A48-A60F-EDF98845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0E6-1450-4F67-89B1-E8FB5792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A4AF8-464A-40FA-911D-7D4F0149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C9E51-B2F4-4FB9-B2B9-38FC1B56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D2C08-2B68-4DC7-B0B1-24F4D6CD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EC974-2CC8-4BEF-B5B3-8215A37C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D881D-5285-4669-81D8-3E808094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A3655-8864-4B0C-9E30-F6207053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C929B-C43D-4E9C-80C4-D39D1D61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7A6FE-E87D-4F69-8774-77A7C73C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26D3A-9592-4CBE-86AD-69207D79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38FE6-3492-410C-A8EA-599C011F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C73-2C7F-414C-A295-DDAB2D76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D1E68-7E9D-4409-BFC4-BA0AA205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C65E2-A30A-4014-9153-33753C59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C746DF-E186-44D9-A857-D668FCAC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E0819D-E587-48EC-B886-7623F345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0A4571-ED4B-47AE-BE94-88130CFA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1C944-AECA-4058-8844-012E0314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01986-983A-4301-933D-3253FAB4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581AD-1755-4424-B6D1-0EF350A3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4D9F70-A290-453F-BE6C-5888F3C5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A3FEE2-8E5B-4EED-B215-194A1C175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F06-4265-43CF-B7D8-A762EEB4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945880-FE77-4372-9A4A-CBBBAEDEC9E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702BAB-E28B-4BC4-AD91-DB77A0EB9E0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0B2B9D-8E44-4CFF-9F34-7DE4B9BC89F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AEDB0F-74C3-4A54-8D80-ADEEACE2685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5F1207-DD13-4C07-8C2B-684526FC8E0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02AF2E-9CC1-46A2-B5C2-AEA754B10B0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97EBC8-E619-4158-983D-2847FC351CA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B04AB0-DF3A-484A-936A-E385A2D1F46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B3FB91-A4D4-4AA1-83B6-88DF7205AF1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EC8D82-2C11-4FFE-A90D-278C336DA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F9F-3B50-495C-926B-680232AF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5A341A-145F-46B0-83D8-4737E3E44C9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D832D-84AE-4738-93C3-1B0D6633850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5B70-796A-48DC-9638-5D7B1C9AAD7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9629B-464C-4A1E-BCDA-D7D99B4E7DC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76298-F62C-40C5-9209-98907BB8236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6F483-B584-4C5A-BE44-CCF10FF8ADE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0A071-126C-4418-8744-E9B994F094F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AAA38-35BE-4282-9E09-C3EF5FDE998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7ADA2-BA97-4D52-9CF6-9639631851F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B9ED1-54C3-476B-A255-EC1C24C23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D8C-1DAE-46BF-B4EC-CF053828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7D0E8-8202-4768-A948-170E11B4AF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C3F44-68B1-437D-B9D9-14698925E66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708E8-989F-4CAA-8A43-05A9B44A832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E3E58-DE72-4F74-84A6-5847340CC7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B491C7-086D-4439-B9AB-4E5B2A38A4B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B1549-D664-4380-B80A-C48A3E3894E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BC20A-28AB-4ABB-A599-24D460CF8B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80510A-8B2D-4694-9A51-A46AF670AC6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F6C35-EFAF-4A30-83F0-80576E0DC51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3E1F5-3FCE-487C-83C7-20A4EF2E5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85E-4B06-4955-B2C4-397B2349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0937C0-F21D-4DAB-A358-3B3A6E25F0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7A0FB-7649-4A9B-AB35-9335FD3CC36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E6F4E-2DB8-4638-AF1C-86BF2A0E6AA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FE452-4838-45BC-91E1-EC20EB272C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B9C02-CC69-43B8-91B6-3BE571D01E0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7E7ABC-D3BD-4011-911E-B691789EA7E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8E40F2-7526-4D05-88C3-8ED9EFF66FD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AC65E2-56F2-4D21-860F-C1243A0CD49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A89B04-9A64-427B-988C-D694FDAD97E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1C26AE-3793-4CC2-8F7B-C22B4FEDF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7BD-DF64-46B7-A410-482867D1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D43C19-7E2D-4D76-AF85-493F34CCA94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2D7321-104B-48CD-A313-7874EB66FAB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D82DC0-E469-4319-B0B6-61C62C23E83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FCA720-7D20-42CC-BE16-6D4A401ED58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AEA200-51EA-47C7-8742-33546F3AE81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C926AF-1495-40B1-BB7C-A8E85892CD8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05D03F-0C8A-404A-87EC-293FA13F034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F7D44-8780-4883-97D7-F176812D03E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4CE9F-DF0A-48AD-A19D-47ADB656500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5C027-B000-4210-9667-40310526F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807B-587D-4540-AF42-ED31075F7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76C9-18FF-4F19-9820-396F7AF85CF4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9149-04C2-4862-806A-24F041CCBBEB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8618-8D11-4E37-86FF-267BC53BE07B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628A-C22D-4C03-9965-E7505BF1B664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5560-8634-4FE4-BC4E-1EA4EB37C220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E75D-2FEB-40E6-9715-C37F48600B47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64F3-04AA-45A5-9961-80BACCBB2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LOGO"/>
          <p:cNvPicPr/>
          <p:nvPr/>
        </p:nvPicPr>
        <p:blipFill>
          <a:blip r:embed="rId2"/>
          <a:stretch/>
        </p:blipFill>
        <p:spPr>
          <a:xfrm>
            <a:off x="2124000" y="44280"/>
            <a:ext cx="4857840" cy="1163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070C-8902-444F-B864-B6693683E203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FA3F-5741-4AF5-8404-CEFFA51285C2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85EB-9D95-43C5-9900-F3A7ADB16480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70B8-C331-4092-8044-9B043E0E5EB1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2DD8-72E4-43BC-9B1E-980368F2A3F3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7047-69FD-4B54-8EC7-D6022F2FC513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50560" y="2852280"/>
            <a:ext cx="8636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73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тичка питања: Међународни документи, Добра клиничка пракса, Структура и израда апликације за Етички одбор, Структура и израда информација за пацијента и формулара информативног пристанка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250920" y="5661000"/>
            <a:ext cx="864216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ц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р Дејана Ружић Зечевић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569880" y="1413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КТОРСКE AКАДЕМСКE СТУДИЈ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1 -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линичка и експериментална фармакологија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авезна област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новна методологија истраживачког рада у фармакологији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4204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Verdana"/>
              </a:rPr>
              <a:t>Интервентне студ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Сврставање пацијената по групам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Рандомизирана контролисана студ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учесници се сврставају у групе по принципу случајног избо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ерандомизирана студија: учесници се намерно сврставају у одређене груп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Интервенциј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една група: сви учесници су подвргнути истој интервенцији током целе студ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аралелна: учесници једне групе су подвргнути истој интервенцији током целе студиј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с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овер: учесници су подвргнути различитим интервенцијама у одређеним временским интервал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Verdana"/>
              </a:rPr>
              <a:t>Интервентне студ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</a:rPr>
              <a:t>Контро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лацебо: учесници могу примати само плацеб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Активна: учесници могу примати неку форму третмана (нпр. стандардни третман) уместо испитиване интервен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сторијска: контрола су резултати добијени из већ обављених студ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Упоређивање доза: учесници могу примати једну од неколико доза лека који се испиту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</a:rPr>
              <a:t>Маскирање</a:t>
            </a:r>
            <a:r>
              <a:rPr b="1" i="1" lang="sr-Latn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Отворена студија: сви учесници знају којој интервенцији су подвргну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Једноструко слепа студија: учесници не знају којој су интервенцији подвргнути, али истраживачи знај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Двоструко слепа студија: ни учесници ни истраживачи не знају која група учесника је подвргнута којој интервенциј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66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Verdana"/>
              </a:rPr>
              <a:t>Интервентне студ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рајњи циљ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езбедност: показује се да ли је лек безбедан за предложену примен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фикасност: мери се утицај интервенције на болест или стањ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езбедност / Ефикаснос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ио-еквивалентност: поређење лекова са заштићеним именом према генерички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ио-расположивост: мери се ниво тј. количина примењеног лека која је доступна организ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рмакокинетика: утврђује се судбина лека у организму (апсорпција, дистрибуција, метаболизам и екскрециј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рмакодинамика: утврђује се дејство лека на организ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рмакокинетика/Фармакодинамик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420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Verdana"/>
              </a:rPr>
              <a:t>Опсервационе студ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34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Сврх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родни ток: студија је дизајнирана тако да истражи обољење или стање посматрањем, без икакве интервен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ринин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студија је дизајнирана тако да систематски процени или испита особе или групе са циљем идентификације специфичних маркера или карактеристик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сихосоцијални: студија је дизајнирана за посматрање психосоцијалног аспекта природних догађај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онгитудинална: студија у којима се учесници посматрају дугорочно(месецима или годинама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тудија пресека: студија у којима се учесници процењују у краћем временском периоду, најчешће мањем од 10 недељ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420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Verdana"/>
              </a:rPr>
              <a:t>Опсервационе студ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дабир учесн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годни узорак: учесници се бирају на начин најједноставнији за онога ко студију спровод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ефинисана популација: учесници се бирају према већ утврђеним критеријумима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ндомизирани узорак: учесници се бирају по принципу случајног избо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нтролисани случај: учесници се бирају тако да њихове релевантне особине одговарају онима из контролне групе сем у погледу посматраног обоље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рем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етроспективна: студија испитује догађаје из прошл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спективна: студија испитује догађаје "ин реал тиме"(који се такође могу догодити и у будућности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893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Verdana"/>
              </a:rPr>
              <a:t>ДОБРА КЛИНИЧКА ПРАКСА</a:t>
            </a:r>
            <a:br>
              <a:rPr sz="3400"/>
            </a:b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sr-Latn-CS" sz="3400" spc="-1" strike="noStrike">
                <a:solidFill>
                  <a:srgbClr val="000000"/>
                </a:solidFill>
                <a:latin typeface="Verdana"/>
              </a:rPr>
              <a:t>GOOD CLINICAL PRACTICE –GCP</a:t>
            </a: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нтернационални етички и научни стандард квалитета за дизајнирање, спровођење, бележење и извештавање при испитивањима која се спроводе на људ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Хелсиншка декларација Светског медицинског удружења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World Medical Associ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Verdana"/>
              </a:rPr>
              <a:t>ДОБРА КЛИНИЧКА ПРАКСА</a:t>
            </a:r>
            <a:br>
              <a:rPr sz="3400"/>
            </a:b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sr-CS" sz="3400" spc="-1" strike="noStrike">
                <a:solidFill>
                  <a:srgbClr val="000000"/>
                </a:solidFill>
                <a:latin typeface="Verdana"/>
              </a:rPr>
              <a:t>ОСНОВНИ ПРИНЦИПИ</a:t>
            </a: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79280" y="184608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линичка испитивања би требало спроводити у складу са етичким принципима проистеклим из Хелсиншке декларације, према GCP стандардима и важећом регулатив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е почетка испитивања, предвидљиве ризике и нелагодности би требало проценити у односу на очекивану добит за испитаника и друштво. Испитивање би требало почети и спровести само ако очекивана добит оправда ризи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ава, безбедност и добробит испитаника су најважнији и требало би да превагну над интересима науке и друш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едвиђено клиничко испитивање требало би да буде подржано доступним неклиничким и клиничким подацима о испитиваном произво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7740720" y="404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1/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Verdana"/>
              </a:rPr>
              <a:t>ДОБРА КЛИНИЧКА ПРАКСА</a:t>
            </a:r>
            <a:br>
              <a:rPr sz="3400"/>
            </a:b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sr-CS" sz="3400" spc="-1" strike="noStrike">
                <a:solidFill>
                  <a:srgbClr val="000000"/>
                </a:solidFill>
                <a:latin typeface="Verdana"/>
              </a:rPr>
              <a:t>ОСНОВНИ ПРИНЦИПИ</a:t>
            </a: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79280" y="184608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линичко испитивање би требало да буде научно утемељено и јасно и детаљно описано у протокол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спитивање би требало спровести придржавајући се протокола који је одобрио (дао позитивно мишљење) независни Етички комит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а медицинско збрињавање и одлуке које се односе на живот и здравље испитаника одговара квалификовани лекар-истражива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аки појединац који учествује у спровођењу клиничког испитивања требало би да поседује квалификације за извођење предвиђеног задат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бровољни пристанак информисаног пацијента је обавезан пре укључивања сваког испитаника у испитивањ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7740720" y="404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2/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Verdana"/>
              </a:rPr>
              <a:t>ДОБРА КЛИНИЧКА ПРАКСА</a:t>
            </a:r>
            <a:br>
              <a:rPr sz="3400"/>
            </a:b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sr-CS" sz="3400" spc="-1" strike="noStrike">
                <a:solidFill>
                  <a:srgbClr val="000000"/>
                </a:solidFill>
                <a:latin typeface="Verdana"/>
              </a:rPr>
              <a:t>ОСНОВНИ ПРИНЦИПИ</a:t>
            </a: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8544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е информације о клиничком испитивању требало би записивати, водити и чувати на начин који омогућава тачно извештавање, интерпретацију и верификациј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верљивост досијеа који могу идентификовати испитаника требало би заштитити, поштујући правила приватности и поверљивости, у складу са важећим прописи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спитиване производе требало би производити, њима руководити и чувати их у складу са важећом Добром произвођачком праксом; требало би их користити у складу са одобреним протокол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цедуре обезбеђивања квалитета свих аспеката клиничког испитивања требало би да буду унапред припремљене и спровођен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7740720" y="404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3/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Одговорности спонз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ема ДКП, спонзор је појединац, компанија, установа или организација која преузима одговорност за иницирање, руковођење и/или финансирање клиничког испитивањ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понзор може да пребаци неку или све своје обавезе уговорној истраживачкој организацији, али крајњу одговорност за квалитет и интегритет носи података испитивања носи спонзор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49016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Verdana"/>
              </a:rPr>
              <a:t>ИСПИТИВАЊЕ ЛЕКО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Развој новог лека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његове синтезе, па до увођења у клиничку пракс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један дуготрајан и веома скуп проц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цењује се да је потребно 8-12 година и приближно 600-800 милиона долара да би новосинтетисани лек прошао све фазе испитивања и доспео на тржишт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Одговорности спонз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онзор треба да користи одговарајуће квалификован персонал за мониторинг укупног спровођења испитивања, за манипулацију подацима, за верификацију података, за спровођење статистичке анализе и припреме извештаја испитивањ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ониторинг клиничког испитивања је надгледање процеса клиничког испитивања и потврђивање да се то испитивање спроводи, документује, и пријављује у складу са протоколом, ДКП, Стандардним оперативним процесима и важећим надлежним процесим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Одговорности спонз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онзор је одговоран за испуњење и одржавање обезбеђења квалитета и система контроле квалитета писаним стандардним оперативним процедурама, како би се обезбедило да спровођење испитивања, документовање и извештавање буду у складу са протоколом, ДКП и важећим прописим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Одговорности спонз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онзор је одговоран за селекцију испитивача/устано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онзор треба да обезбеди осигурање или накнаду испитивачу/институцији, уколико то прописују важећи пропис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 планирању испитивања, спонзор треба да буде сигуран у ранија претклиничка и клиничка испитивања и њихове резултате а који се тичу излагања испитаника новом ле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дговорност је спонзора да континуирано процењује сигурност испитиваног произво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Одговорности спонз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понзор треба хитно да проследи свим заинтересованим испитивачима и установама, Етичком комитету и осталим регулативним телима извештај о свим нежељеним реакцијама на лек које су биле тешке и неочекиване, ако се то траж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понзор у току и на крају испитивања је дужан да подноси извештаје регулаторним агенцијам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Verdana"/>
              </a:rPr>
              <a:t>ДОБРА КЛИНИЧКА ПРАКСА</a:t>
            </a: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-</a:t>
            </a:r>
            <a:br>
              <a:rPr sz="3400"/>
            </a:br>
            <a:r>
              <a:rPr b="1" lang="sr-CS" sz="3400" spc="-1" strike="noStrike">
                <a:solidFill>
                  <a:srgbClr val="000000"/>
                </a:solidFill>
                <a:latin typeface="Verdana"/>
              </a:rPr>
              <a:t>Етички одбор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7854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зависно тело (институционално, регионално, национално или интернационално) које чине здравствени/научни чланови и чланови који нису здравствени радници/научници, чија је дужност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да осигура заштиту права, сигурности и добробити испитаника укључених у клиничко испитивање и да јавности достави уверење о тој заштити, тако што, између осталог, ревидира и одобрава/даје позитивно мишљење о протоколу испитивања, подобности истраживача, установе, као и метода и материјала који ће се користити у процесу добијања добровољног пристанка информисаног пацијента – субјекта испитивањ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Engl: </a:t>
            </a:r>
            <a:r>
              <a:rPr b="1" i="1" lang="sr-Latn-CS" sz="2100" spc="-1" strike="noStrike">
                <a:solidFill>
                  <a:srgbClr val="000000"/>
                </a:solidFill>
                <a:latin typeface="Verdana"/>
              </a:rPr>
              <a:t>ethics committe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000000"/>
                </a:solidFill>
                <a:latin typeface="Verdana"/>
              </a:rPr>
              <a:t>Рад ЕО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 току редовних седница ЕО детаљно разматра и доноси одлуке у вези с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едлозима (апликацијама) за нове клиничке студ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мандманима на већ одобрене студ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ериодичним, ванредним и завршним извештајима о одобреним студија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ијавама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збиљних нежељених догађаја/реакција (</a:t>
            </a:r>
            <a:r>
              <a:rPr b="0" i="1" lang="sr-Latn-CS" sz="2400" spc="-1" strike="noStrike">
                <a:solidFill>
                  <a:srgbClr val="000000"/>
                </a:solidFill>
                <a:latin typeface="Verdana"/>
              </a:rPr>
              <a:t>SA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озбиљних неочекиваних нежељених реакциј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Verdana"/>
              </a:rPr>
              <a:t>SUSA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длука се доноси у што краћем рок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Verdana"/>
              </a:rPr>
              <a:t>Документација за премаркетиншке клиничке студије (1)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ротокол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тудиј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сажетак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зјав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етичким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документим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кој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ротокол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ридржа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ест листа (</a:t>
            </a: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Report Forms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нформациј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ацијент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српском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језику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зјав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ристанку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ацијент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учешћ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студији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српском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језику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опис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начин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ћ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аци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ј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енат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добити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ристана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брошур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траживач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роцедур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регрутовањ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ацијенат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материјал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ћ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то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користи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јава о начину надокнаде евентуалне ште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sr-CS" sz="2900" spc="-1" strike="noStrike">
                <a:solidFill>
                  <a:srgbClr val="000000"/>
                </a:solidFill>
                <a:latin typeface="Verdana"/>
              </a:rPr>
              <a:t>Документација за премаркетиншке клиничке студије (2)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нформациј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материјалној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надокнади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спитаниц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доказ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обазбеђеном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осигурању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ацијенат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ћ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учествовати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студ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биографиј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главног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омоћних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страживач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датиран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отписан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ртификат анализе за студијске леков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ртификат Д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П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за произвођача студијских лек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исак центара где се спроводи студ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едлог уговора између истраживача, установе и спонзора, са јасно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веденим финансијским надокнада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в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значајн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ретходн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одлук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у вези са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редложен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студиј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Verdana"/>
              </a:rPr>
              <a:t>Документација за постмаркетиншке интервенцијске клиничке студије (1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ротокол клиничке студ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ажетак протоко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зјав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о етичким документима кој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х се протокол придржа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етаљно упутство за употребу ле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ажетак карактеристика ле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ест листа (</a:t>
            </a: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Report Forms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ографије свих истраживача (датиране и потписа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роцедур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регрутовањ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ацијенат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материјал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ћ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то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користи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ис начина на који ће се од пацијената добити пристана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кументација за постмаркетиншке интервенцијске клиничке студије (2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440" y="19843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нформациј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ацијент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српском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језику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зјав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ристанку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пацијент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учешће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студији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српском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језику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зјава о било ком облику надокнаде пацијентима за учешће у студ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зјава о начину надокнаде евентуалне ште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аз о обазбеђеном осигурању пацијената који ће учествовати у студ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е значајне претходне одлуке у вези са предложеном студиј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430200" y="2133720"/>
            <a:ext cx="8462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10 000 нових хемијских синтеза → 100 кандидата за озбиљнија претклиничка истраживања → 10 кандидата за клиничка испитивања → 1 лек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1 нови лек ~ 250-300 милиона УСД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Од синтезе до појаве лека на тржишту ~ 9 година (клиничко испитивање ~ 7 година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826920" y="765000"/>
            <a:ext cx="749016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Verdana"/>
              </a:rPr>
              <a:t>ИСПИТИВАЊЕ ЛЕКОВА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кументација за постмаркетиншке неинтервенцијске (фармакоепидемиолошке) студиј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отоко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ажетак протоко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јава о етичким документима којих се протокол придржа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информација за пацијенте и формулар информисаног пристанка на српском језику, као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опис начина на који ће се од пацијената добити пристана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само за проспективне студије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ест листа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Case Report Forms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цедура регрутовања пацијената и материјал који ће се за то користи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иографије свих истраживача (датиране и потписа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6946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дношење извештаја главног истраживача (ГИ) о већ одобреној студиј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22870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ериодични – на свака 3 месе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звештај о завршетку студије – у року од 3 месеца од када је последњи пацијент завршио протоко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бавештење о превременом завршетку студије – у року од 15 да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Verdana"/>
              </a:rPr>
              <a:t>Одступања од протоко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3944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понзор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sr-Latn-CS" sz="3000" spc="-1" strike="noStrike">
                <a:solidFill>
                  <a:srgbClr val="000000"/>
                </a:solidFill>
                <a:latin typeface="Verdana"/>
              </a:rPr>
              <a:t>CRO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/ГИ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свака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3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есеца подноси извештај о прото</a:t>
            </a:r>
            <a:r>
              <a:rPr b="0" lang="sr-RS" sz="30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ол „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iation”</a:t>
            </a:r>
            <a:r>
              <a:rPr b="0" lang="sr-RS" sz="3000" spc="-1" strike="noStrike">
                <a:solidFill>
                  <a:srgbClr val="000000"/>
                </a:solidFill>
                <a:latin typeface="Verdana"/>
              </a:rPr>
              <a:t>(одступању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Хитно обавештавање о одступањима од протокола у случају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посредне опасности по испитаник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већавања ризика по испитани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чајног утицаја на спровођење студ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ијава нежељених ефека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ијављује спонзор/ЦРО/Г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Verdana"/>
              </a:rPr>
              <a:t>SA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– одмах (хитн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Verdana"/>
              </a:rPr>
              <a:t>SUSAR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 року од 15 дана, односно 7 дана за смртни исход или животну угрожено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цена безбедности лека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основу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података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целог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клини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ког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испитивања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- ј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едном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годи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њ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едовно извештавање о </a:t>
            </a:r>
            <a:r>
              <a:rPr b="0" i="1" lang="sr-Latn-CS" sz="2400" spc="-1" strike="noStrike">
                <a:solidFill>
                  <a:srgbClr val="000000"/>
                </a:solidFill>
                <a:latin typeface="Verdana"/>
              </a:rPr>
              <a:t>SAE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ѕ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sr-Latn-CS" sz="2400" spc="-1" strike="noStrike">
                <a:solidFill>
                  <a:srgbClr val="000000"/>
                </a:solidFill>
                <a:latin typeface="Verdana"/>
              </a:rPr>
              <a:t>SUSAR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ѕ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з других студија са истом активном супстанц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ОБРОВОЉНИ ПРИСТАНАК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ИНФОРМИСАНОГ ПАЦИЈ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7854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оцес којим испитаник добровољно потврђује своју спремност да учествује у одређеном клиничком испитивању, пошто је информисан о свим аспектима испитивања који су релевантни за доношење одлуке о учешћу. Пристанак информисаног пацијента се документује помоћу писаног, потписаног и датираног обрасца за пристанак информисаног пацијен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Engl: </a:t>
            </a:r>
            <a:r>
              <a:rPr b="1" i="1" lang="sr-Latn-CS" sz="2100" spc="-1" strike="noStrike">
                <a:solidFill>
                  <a:srgbClr val="000000"/>
                </a:solidFill>
                <a:latin typeface="Verdana"/>
              </a:rPr>
              <a:t>informed cons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Verdana"/>
              </a:rPr>
              <a:t>Одговорност главног истраживач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ма ДКП главни истраживач треба да буде квалификован образовањем, обуком и искуством(доказује се ажурираном биографијом) да би преузео одговорности за спровођење клиничке студиј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н бира чланове свог тима и одговара за њихов ра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 спонзором, Етичким комитетом и властима одговоран је главни истраживач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Verdana"/>
              </a:rPr>
              <a:t>Одговорност главног истраживач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знавање протокола и брошуре за истраживач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муникација са Етичким комитетом, са спонзором, са здравственим власт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грутација испитаника и добијање сагласности за студи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ступање са испитиваним производом и документациј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ОБРА КЛИНИЧКА ПРАКС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 НЕЖЕЉЕНА РЕАКЦИЈА НА ЛЕК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7640" y="1988640"/>
            <a:ext cx="8785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 клиничкој примени новог медицинског производа пре регистрације (или пре регистрације његове нове индикације), нарочито ако терапијске дозе нису утврђене - све штетне или нежељене реакције медицинског производа без обзира на његову дозу, уколико се веза између медицинског производа и нежељене реакције не може искључи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 клиничкој примени лека који је на тржишту – штетна и нежељена реакција на лек која се јавља при дозама које се нормално употребљавају код човека у профилакси, дијагностици или терапиј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Engl: </a:t>
            </a:r>
            <a:r>
              <a:rPr b="1" i="1" lang="sr-Latn-CS" sz="2100" spc="-1" strike="noStrike">
                <a:solidFill>
                  <a:srgbClr val="000000"/>
                </a:solidFill>
                <a:latin typeface="Verdana"/>
              </a:rPr>
              <a:t>adverse drug reac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ДКП- НЕОЧЕКИВАНА НЕЖЕЉЕНА РЕКЦИЈА НА ЛЕ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7854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жељена реакција такве природе и интензитета какве нису наведене у постојећој информацији о производу тј. брошури за истраживача о нерегистрованом производу (компилација клиничких и неклиничких података о испитиваном производу, релевантних за тестирање испитиваног производа на људима) или упутству за примену лека/резиме карактеристика за регистрован производ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Engl: </a:t>
            </a:r>
            <a:r>
              <a:rPr b="1" i="1" lang="sr-Latn-CS" sz="2100" spc="-1" strike="noStrike">
                <a:solidFill>
                  <a:srgbClr val="000000"/>
                </a:solidFill>
                <a:latin typeface="Verdana"/>
              </a:rPr>
              <a:t>unexpected adverse drug reac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ДКП-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НЕЖЕЉЕНИ ДОГАЂА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ило који нежељени догађај везан за здравље испитаника код кога је примењен фармацеутски производ и који може, а не мора да буде у узрочно-последичној вези са терапијом. То може бити било који неповољан и нежељен знак (укључујући и лабораторијски налаз ван граница нормале), симптом или обољење настало током примене медицинског (испитиваног) производа (тј. временски повезано са том применом), без обзира да ли је узрокован испитиваним производом или не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Engl: </a:t>
            </a:r>
            <a:r>
              <a:rPr b="1" i="1" lang="sr-Latn-CS" sz="2100" spc="-1" strike="noStrike">
                <a:solidFill>
                  <a:srgbClr val="000000"/>
                </a:solidFill>
                <a:latin typeface="Verdana"/>
              </a:rPr>
              <a:t>adverse ev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Verdana"/>
              </a:rPr>
              <a:t>ИСПИТИВАЊЕ ЛЕКО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Процес испитивања лекова почиње пре свега испитивањем на животињама – </a:t>
            </a:r>
            <a:r>
              <a:rPr b="1" lang="sr-CS" sz="3000" spc="-1" strike="noStrike">
                <a:solidFill>
                  <a:srgbClr val="000000"/>
                </a:solidFill>
                <a:latin typeface="Verdana"/>
              </a:rPr>
              <a:t>експериментално испитивањ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Након позитивне оцене у овој фази, приступа се испитивању лека у хуманој популацији</a:t>
            </a:r>
            <a:r>
              <a:rPr b="1" lang="sr-CS" sz="3000" spc="-1" strike="noStrike">
                <a:solidFill>
                  <a:srgbClr val="000000"/>
                </a:solidFill>
                <a:latin typeface="Verdana"/>
              </a:rPr>
              <a:t> – клиничко испитивањ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4920" y="412560"/>
            <a:ext cx="818028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ДКП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-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ОЗБИЉАН НЕЖЕЉЕНИ ДОГАЂА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7854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ило која нежељена појава везана за здравље испитаника која, без обзира на дозу, изазива смрт, непосредно угрожава живот, захтева или продужава постојећу хоспитализацију, резултира трајном или значајном неспособношћу/инвалидитетом или представља конгениталну аномалију/оштећење на рођењ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Engl: </a:t>
            </a:r>
            <a:r>
              <a:rPr b="1" i="1" lang="sr-Latn-CS" sz="2100" spc="-1" strike="noStrike">
                <a:solidFill>
                  <a:srgbClr val="000000"/>
                </a:solidFill>
                <a:latin typeface="Verdana"/>
              </a:rPr>
              <a:t>serious adverse event</a:t>
            </a:r>
            <a:r>
              <a:rPr b="1" i="1" lang="sr-CS" sz="21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SA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000000"/>
                </a:solidFill>
                <a:latin typeface="Verdana"/>
              </a:rPr>
              <a:t>Литерату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566280" y="1752120"/>
            <a:ext cx="80377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авилник о условима и начину клиничког испитивања лека, поступцима и садржају документације за одобрење клиничког испитивање лека (С. Гласник РС, бр. 28/200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Јанковић С, ур. Добра пракса у раду Етичких одбора. Крагујевац, Медицински факултет, 2009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ne LH, Graham PH. Good intentions and ICH-GCP: Trial conduct training needs to go beyond the ICH-GCP document and include the intention-to-treat principle.Clin Trials 2014;11(6):629-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Ethical Guidelines for Biomedical Research Involving Human Subject, Council for International Organizations of Medical Sciences (CIOMS) and WHO, Geneva, 200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jayananthan and O Nawawi. The importance of Good Clinical Practice guidelines and its role in clinical trials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med Imaging Interv J 2008; 4(1):e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Verdana"/>
              </a:rPr>
              <a:t>ЕКСПЕРИМЕНТАЛНО ИСПИТИВАЊЕ ЛЕКО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507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Циљ је испитати фармакокинетику и ефекте ле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Акутни токсични ефекти се испитују излагањем групе животиња великим дозама лека (тзв.студије акутне токсичност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Хронични токсични ефекти (студије хроничне токсичности) постижу се излагањем групе животиња испитиваном леку у дужем временском период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На гравидним животињама се испитује да ли је лек тератоген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Мутагени потенцијал лека се испитује на културама микроорганизам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анцерогени потенцијал лека подразумева способност да код експерименталних животиња доведе до појаве малигните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Verdana"/>
              </a:rPr>
              <a:t>КЛИНИЧКО ИСПИТИВАЊЕ ЛЕКО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сле експерименталног тестирања лекова и добијања одобрења независног Етичког комитета, приступа се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клинич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испитивању леков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линичко испитивање лекова одвија се у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4 фа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при чему се свакој наредној приступа само ако је лек у претходној фази показао задовољавајућу ефикасно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429840" y="1988640"/>
            <a:ext cx="8713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 фаза: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на малом броју здравих добровољаца утврђује се фармакокинетика лека у хуманом организм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 фаза: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на малој групи болесника утврђује се ефикасност лека у лечењу одређене болес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 фаз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: на великој групи болесника, изабраној методом случајног избора, упоређују се ефекти испитиваног лека с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1. природним током болести – контролна група болесника прима плацеб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2. ефектима до тада коришћеног лека који прима контролна груп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(активна контрол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 фаз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: лек који је уведен у клиничку праксу и даље се испитује – прати се појава нежељених дејстава лека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Verdana"/>
              </a:rPr>
              <a:t>КЛИНИЧКО ИСПИТИВАЊЕ ЛЕКО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712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Verdana"/>
              </a:rPr>
              <a:t>КЛИНИЧКО ИСПИТИВАЊЕ</a:t>
            </a:r>
            <a:br>
              <a:rPr sz="3800"/>
            </a:br>
            <a:r>
              <a:rPr b="1" lang="sr-Latn-C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sr-Latn-CS" sz="3800" spc="-1" strike="noStrike">
                <a:solidFill>
                  <a:srgbClr val="000000"/>
                </a:solidFill>
                <a:latin typeface="Verdana"/>
              </a:rPr>
              <a:t>CLINICAL TRIAL - STUDY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784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ило које испитивање на људима чији је циљ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а открије или потврди клиничке, фармаколошке и/или друге фармакодинамске ефекте испитиваног производ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/или да идентификује било које нежељене реакције на испитивани производ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/или да испита ресорпцију, дистрибуцију, метаболизам и екскрецију испитиваног производа, са циљем да утврди његову подношљивост и/или ефикасно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Клиничко испитивање = клиничка студ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Тип студ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Интервентна: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експериментална студија на људима у циљу испитивања безбедности и/или ефикасности лека, генске терапије, вакцине или друге процедур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Опсервациона: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студије на људима које региструју специфичне догађаје у оквиру дефинисане популације до којих долази без утицаја истраживач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44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Verdana"/>
              </a:rPr>
              <a:t>КЛИНИЧКО ИСПИТИВАЊ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7:07:23Z</dcterms:created>
  <dc:creator>User</dc:creator>
  <dc:description/>
  <dc:language>en-US</dc:language>
  <cp:lastModifiedBy>Admin</cp:lastModifiedBy>
  <dcterms:modified xsi:type="dcterms:W3CDTF">2020-03-20T09:37:18Z</dcterms:modified>
  <cp:revision>167</cp:revision>
  <dc:subject/>
  <dc:title>Slide 1</dc:title>
</cp:coreProperties>
</file>